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CF0-EC31-4B30-8745-209CD43D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AC2-0BE7-4EFA-BAA1-E1409982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6002A-D0CC-49C1-BF4C-FA959A90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8AD72-0EC8-4EB2-9BCF-B390FDB8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34C0B-8D12-4CB2-B0A7-69A3C29D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21DAC-A588-43FA-865F-186D3B54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2C670-EECA-4A01-828C-F17D56B6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AEB86-449A-4416-9B68-6FD3E89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9EA7E-BEB9-4A7C-ADF3-70C49DEE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8508D-8306-45EF-ABB1-B7C4565D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5FC21-6B38-4E6E-B1FB-95180BFD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A2F22-7280-4F0B-8D27-0FEA8388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F60-7E8F-4BD6-81D2-C88E572F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F22D4-DD0A-4BB1-99A2-FB276685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E76FA-5B15-4132-B734-39442C00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3320C-7561-4B15-8BE5-F9213357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BD4CA-C8ED-4144-B9B3-F9244E3B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AE002-2814-4B26-8144-D3D6C4BD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F2D0D-2E76-4689-8FBE-44107BC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A7423-DB10-431F-85D3-AC6D8CC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77427-393B-4B07-B555-24FF3C44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ECD30-8444-4B7B-8A8A-E5B53F84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AC962-E6AC-4B20-A080-AC0C9D0C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B24-3E86-4F24-A1C5-B581DDEB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7449B-632A-42E6-9808-56822E67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890FB-8BCB-4C22-9614-264E869B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205EE-C005-4080-AEF3-D98A25A6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3BC8F-636B-4CF5-A26B-4BF0393D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3C767-A7FA-4A48-A38A-87E5355D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46632-F71B-4729-9707-DC2427FF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17FF4-407C-40FC-8B25-AFF35587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4D5E5-912F-44F0-956C-74C7375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34DA4-C3A1-4C17-A6A3-756F6E40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E20F9-0940-44F2-9FA5-19D5AE5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9339-B778-4EA0-9CF1-D92288D9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49CF4-2BF9-4FCA-816C-09D6B31C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52906-9EF8-43D5-A563-5154A30A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FD3EC-1D4A-4BE6-BCCD-0F63E348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002A0-9C72-4FCA-ADC9-45BB3BCF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92248-7E6C-4E5A-BE20-FD3FBF6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B2ACB-1B32-4162-B430-632A844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CA850-6F40-452F-8A5E-76045ED5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B2D84-ACB6-4E0D-8190-BAE4707B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88E87-7692-4E71-8284-5C0CC22F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AF779-BC9D-4F4D-890C-F5B7900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8377-D136-42E3-8A93-8155ED5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078C5-5531-405B-BBC3-AF782DF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C7D54-B7C0-40BE-9A2D-BE045F0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690B0-DB36-461E-8441-E5AAA9D2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7BC7B-87FD-438E-93F3-77F5412A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5BD47-6C14-4AB1-882E-537769DD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006E9-6A33-4F98-A28E-8864B74F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85E16-6E7B-4CFB-8E49-22EAAF50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FC014-8D1C-4ABE-BC43-0C51CF3F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882D6-5130-4579-B3E0-D2F7BAD5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9A18E-8086-466F-AF81-E82DBBF3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E208-27AF-4E34-A7E2-D1E1A9BE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74D74-5CBF-461F-9F09-197BFE82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3F981-804F-4D24-AFCC-91F3113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0BFED-F375-449F-9E45-6B0B2029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0CF46-F50D-406F-B8E4-2C41AE5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AE443-E592-440E-B570-B84AEF5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2769B-194D-47CF-A050-C23A7BF1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DD6BB-2285-49EE-8D1B-4485B682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BB630-05A6-45DB-BCD6-30FC8058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1AF88-67BC-4DFA-BA91-E37EBBA8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CDC4C-FBC2-4CF9-9AC6-03A5BFB4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B619-7E0D-4FBB-832C-504759DB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A1904-A533-4384-8903-2808A484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551B4-068D-4FD9-97AC-59AB8C95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78C7B-6758-4486-AF87-6A830B72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B87BE-252F-4B45-B3AB-CFB58589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E27ED-3951-447D-ACE2-ACFF52B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DF6E7-6A39-4842-8422-76A8469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51089-8080-4D4D-995A-77F55E9F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9476E-45BE-4726-B932-891A2C10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0987B-4645-4E35-9E00-2E1B05ED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BAF57-03BE-4D8C-8D39-342A3960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9C28-669F-4A68-95F3-D9D07EDA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A922E-7F03-48EB-A18D-AC9D69A9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CB7A3-F00E-4C7C-9C49-065C23B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B568D-128A-4AE6-9E97-D77F72B5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0BEB0-1B60-4FD4-87B1-9CC4737F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F4203-8530-4EB5-957B-E66D12DF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23697-85C3-4B88-9E24-44D2B87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1FED4-08AC-49BF-9AB9-5A755031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4FC5D-6C23-418B-903C-33F5635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094A4-5D60-4DE4-9D83-1B7044E3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F6B0E-6F0B-4659-AFD2-7C687108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9A0C-9A28-451E-9A8D-3AD88E26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5B7F3-5550-4C09-B7B9-0C9AC90A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915DC8-47A1-4DE1-AC6D-B9F73ACD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0DDFA-85B3-49D2-838E-C090B104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30118-EC14-4306-A35D-5D8231C0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E1102-11AD-4C68-AD08-FF79C8DA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4A490-8A40-4BCC-8547-F169A153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CDBF4-17F8-4314-B2CA-B51A68E1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0394F-B1B2-4D89-AC4F-51F7D7DB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42D353-6BEC-4EE8-9B92-66EA850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D21D38-62A2-44E5-85BA-C9D5FCB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2313-F7C7-4CE9-A2AA-11DF299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93603-6277-47D5-A631-6EDC46EC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6C2AE-B58C-4586-9A43-DE3FF217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9CBFD-46CC-4624-BCE8-450BF8C9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447D6-CEA5-472D-A3F8-2355CEFB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A042A-F164-4EBF-8004-0ADAAC9E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851E3B-0CE1-4434-977F-C476CBEE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19329-73A4-4534-94B9-3C6792F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70116-AC0B-46E7-9795-8496D645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28A8D-1942-4CEA-B6ED-7A0E2BDE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E7344-1FC8-49FE-B625-0205F5C6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B19-A94B-40AD-A8BC-BB399983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1364-0780-41A8-B040-C8861261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7B919-7325-4C8F-B433-42F3072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9DA8BC-28C9-4EC6-85CC-AB9B8B3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0630D-98F3-49E6-B953-1F4C09B5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ABF9C-8AE3-4D08-99C7-CC5A915E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B8BB7-A95E-4504-8E3C-0B072401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7A764F-B351-4F7D-BF1D-978F6139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32747-89C3-4376-92FC-3EE36086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F0FE6-72D6-4049-B304-A8E7493D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D5E5A-F6F9-449D-8F5F-2ACCAF94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61B8C-410A-4970-BAFA-5E7AAF95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760D-4C65-4EBC-B8EF-4FBF0BEE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E23BA-31A8-4C0E-B66A-F5136EBB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BA2AE-0FA8-4DA5-BC52-1838578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F5B6E-CEB5-4B06-94EF-9B89018B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E961F-F8EE-478B-9502-C69AFF1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F1715-7EAC-4CB6-B625-AC3ACCA9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4C529-B316-432F-BE67-B5CB1B38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B26B4-C5D9-42B6-9B5A-99FA0D70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58B4D-43B2-4D81-B5BB-10D159B5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6CEE5-3E65-4DF9-B057-17141E42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CA636-7B24-47D0-88B5-86DEA580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A27B-0860-4F45-AFDC-1DEECDB3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8FF45-305A-4B75-ABCA-92D52008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AC2AC-1E2A-4C19-B634-6B214D2A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C22F1-C983-438E-803E-857B1C24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385B0D-A732-42BE-8FAE-56A7AAF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8D287-9308-4F9C-B5DB-58B332A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EEE30-9C66-4C19-A723-CB0D0831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25030-A594-47C1-BEA5-794508D2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8B19E-3DDF-46DC-BB06-38F8D5D1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36B7B-6803-4FEE-8EF0-E0EFE530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2F942-57AE-4D50-8815-1180A26F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4CE4-FD3A-46A1-AC69-1E467B10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6280C-81E2-47AA-BAE5-37AF17DE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62FA9E-C594-4F01-A23B-982AB033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08796F-BF39-48FD-B375-7A8D6303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6C393-120E-4714-8403-79A9C21D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7958D-0B61-4547-BE73-EF3C1331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7A982-B092-4AE9-9661-14AF5A9D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F24B5-A9D4-44FD-9E74-6C6A90F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053C9-C900-42F6-A37C-FEE392B6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D6ECE-6230-4769-A8D5-07DEBD96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B5E8B-8EC0-4372-86F8-D2F2905B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64CA-0A5D-4F2E-B89F-A7B750C4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8BBBA-BBDA-4DEB-993A-C5E5B207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14877-5D7D-4E91-A681-A4C0CEE7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93EED2-8177-42DB-AA78-83F150D2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F4C3C-3D3A-4E40-88A0-C9CDE19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5238EF-6993-4E80-A826-3AB25095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5BB600-C075-483D-84EE-47FEB40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D5083-5D3E-4B4C-9BA9-97D044ED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28683-695A-4706-8387-79B45559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A51F8-3D27-403D-AED4-FDE354AD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F612A-B6AF-4DA3-A974-1D066E1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7386-A954-47AE-8EE7-67EE6F80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9FDB66-E43A-4E77-A2E7-5C0CC0D9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2AA4AB-B0F3-49E1-A8F2-A362DC5E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FB4F7-1613-4F5C-81C8-AA24280E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E767-C50D-41E7-B7DC-21E4A569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2600-4338-43B8-9F55-AAD0D411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AE76-965B-4541-A839-83130CBF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703F-BE6A-400E-9E99-BB185FE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3E4-0E31-456F-BED6-B733CAE1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CBB4-11D0-42E3-A3C7-2E842633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9C92-19C4-469C-B2F2-F56173F3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662C2-4207-45C1-ADEA-A25F3CCB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9430-BA06-486A-93DA-FB12E7D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1651-B5A6-4FE6-977C-E7C792F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90F8-63B3-40C6-B1D9-96AC1303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356B-D52F-45F8-80B4-3D2C3553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24F8-1276-44EE-B81B-2617D199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89188-79B5-465B-9281-5530AFE4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6D80-7389-40F4-870B-A0DAC779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EAD-F052-4BEB-99E9-B75C8E6A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0365-DD09-488D-BBD4-1AE4C2FF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CB5A-C48A-4492-9161-F4E15BB8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D7DBB-21FD-471D-ABC5-35975EC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B7E60-402D-4260-B63A-2D4D3C9A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BA76-081B-4B38-9CB2-20C69D1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7E27-87FA-4AC2-BBA0-36CA3E8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5851-A586-4689-B2E3-FE0348B4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2B34-5921-48B7-B1BE-B0DD602E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108A-8C8C-4489-9525-1A1C1E7F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EB105-CE53-40C6-A99F-C144ECE3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C5D-24A1-4904-A42C-B1FFCBCC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65A2-F45F-4CEE-A56F-31C47D50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70284-0D2E-44DC-AFF0-A44079B8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1E91-98ED-4E08-B09E-C76DB2C8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C7557-DEC2-4BD6-B081-BDA9E1DF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6263C-F7FD-440D-A6E7-BF05D01D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7788-ECDA-441A-93A0-8D529BB0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C29E0-38AD-42B0-AB71-81D6985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42014-D983-4C0F-87D6-C599C6C0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EB915-8D71-4CBD-B7F7-873859DB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850C1-23D8-4655-95DF-99C7347A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819-8255-4B60-AB5F-A2A17863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77F9D-B6E5-4F63-BA81-1E3C6C21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B050-6369-4274-AC9F-A8F8165F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51858-72C2-425A-975B-09E14908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5AF9-1F26-4D8F-A46B-0A59BEC2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E12EB-76B4-4791-A294-92961A8E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94363-2FCB-4E75-BF9D-EF8BFC7A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49478-F553-4805-A5FF-9D9C387C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7DE44-FD1A-4606-AFFD-36F3F471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E238-6157-4B9E-8EB5-9731A3B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1F47B-370B-4051-A923-58BE10E0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06D-241F-4708-83FD-1FA26411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ABDA-895F-4569-83B5-81CD44A2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B154C-B4B8-458E-816B-5978DD3E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C27A5-4AB2-40FC-9931-46B51B39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C253A-14FC-4E5A-9E3F-D1E83BE8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7270B-3D83-468D-B538-A1CDCAEB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30946-71A6-416D-83F7-CCC5FA65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83928-3276-448B-A13B-E83BBCC4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2F83A-DF39-4BD8-AE49-4EC90DC1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B26DD-6D00-4D5E-B41E-D766A843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CD9BF-264A-47E4-A9BC-B1D70A1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F34-F52B-4130-B556-6BE1C32B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50FF1-ED7D-45D5-914C-EAA81D5D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3F035-597F-4CEC-BF9C-07A9303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B6D5-7DC5-4368-BC86-3A41393C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F837F-9994-4994-BFEF-3AE1BC63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9B39B-0926-4571-A41B-FA03199E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B1FC0-32E1-46CE-A5DB-44646000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F0AA9-C40C-47C7-9ED5-B1278F60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2DDFE-C10B-411B-ABA9-9158DF74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ACA76-7314-4A48-AFF8-939DC9CF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7D61A-EA5F-48D3-A38B-DBF3191D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9CF-3531-46BB-98DF-E661F321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14101-CD40-4AAB-87C5-93C8978D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83FB-02AF-423C-863B-FB10AFCB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9A645-2F5B-4637-8B40-DA9C7B4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FE16E-D733-4DEF-B620-CDEE578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1A204-EE54-4D31-975F-CD012BC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8362-E678-4320-A9AB-CE783C18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55867-EF36-490B-BDA3-616B592C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4E162-ACEF-4180-BC71-279FC71D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79540-8406-4974-AD18-A4580650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D0E59-8A95-4EE7-99D8-9A9C44AB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2E2A-DB0A-4AE5-B11B-D1623AE80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783-2FCC-4709-A4FB-67A06642AD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204-4475-4C6D-B249-0607BD50A1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56DE-BC39-41EB-824F-A38689A6C7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D91B-B452-4805-A799-4A5A5DDDA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16AC-DDCC-4999-93D8-ADDBC81B09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C80A-A613-4C20-BCC1-D938BD6C3F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61DA-7412-4649-88B9-4221B79917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239B-2754-4196-AE80-428B962CE3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76B8-1F1D-4CFB-9280-0C8F7AB8C5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12A1-741F-4F5C-8539-86D2C9FFB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AFD0-3655-4641-AF5E-42814C4812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E416-0682-45FB-89B4-1D591A3785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908F-786C-4EC3-9DD6-131479BBB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B42E-11C6-4489-AE10-4815555B9C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E817-90E7-4D90-B015-15048D0F7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8E7C-F16B-417C-9A40-6AB811A035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E9C-77E5-4BB7-BCFF-ACD4DAE171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57F-8305-424D-BC46-8AFD0DBA36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685C-641F-436A-9B4E-F563C84232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E076-8164-4D80-8B61-B95C75410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E017-838A-4F00-8ACA-3F7CACA001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3622-9679-480A-82DE-236A9C05DC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8155-C631-4E43-B915-0E6D0264B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D899-4CB8-4B56-993B-4318549CDB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A015-1AF5-4A04-A0D0-EEC65939C1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AA8E-2D2B-4F43-926F-09A194DD9D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6766-79B0-4805-A534-960C10B2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588C-CA17-4411-93C3-2520743721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74B8-E827-4E1E-8E9D-4182AD234B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A5E9-D301-4AC6-B68A-86869ADB9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AE21-AFFA-40C3-84F9-DD64AD653C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51C-A4A4-4F8B-A112-CF4481B084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6A21-6286-48B1-A7E1-F9B0882A5C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AEF6-A783-4F2B-AFB9-9D92D0A24C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A302-4EC4-4EA6-BA37-B638A17F9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0526-2776-47D9-B4DE-DB8B2DA723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9625-9B3A-415B-ABB6-91C7BDF787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6B9D-0972-4075-94CD-E35672A8C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D720-ADE9-40D9-9BE7-0D49289008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09720" y="1989000"/>
            <a:ext cx="3724560" cy="9716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623880" y="3278160"/>
            <a:ext cx="78948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85680" y="115920"/>
            <a:ext cx="8915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433440" y="1604880"/>
            <a:ext cx="8275680" cy="36482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755640" y="2997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28440" y="115920"/>
            <a:ext cx="8999640" cy="6380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6012000" y="1052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0429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60847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116000" y="24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19160" y="1328760"/>
            <a:ext cx="8904240" cy="4200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187280" y="35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1187280" y="4941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4680" y="733320"/>
            <a:ext cx="9132840" cy="5391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116000" y="15858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116000" y="3645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419040" y="771480"/>
            <a:ext cx="8305920" cy="5315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82692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428760" y="2205000"/>
            <a:ext cx="8286480" cy="24480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2" descr=""/>
          <p:cNvPicPr/>
          <p:nvPr/>
        </p:nvPicPr>
        <p:blipFill>
          <a:blip r:embed="rId1"/>
          <a:stretch/>
        </p:blipFill>
        <p:spPr>
          <a:xfrm>
            <a:off x="85680" y="1022400"/>
            <a:ext cx="8972640" cy="52290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6948360" y="1859040"/>
            <a:ext cx="1800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4284720" y="3156120"/>
            <a:ext cx="1800000" cy="4489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2641680" y="5099040"/>
            <a:ext cx="180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452520" y="2104920"/>
            <a:ext cx="8237520" cy="26481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5508720" y="2190600"/>
            <a:ext cx="309564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826920" y="3486240"/>
            <a:ext cx="720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539640" y="114480"/>
            <a:ext cx="8401320" cy="6629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2814480" y="9079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8524800" y="15858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2843280" y="22334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3059280" y="28954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0:3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